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5B5-108C-447D-8CD7-1BD0C39A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E0F-D004-4DF7-98B2-EB1BBEED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189-CC25-4034-9371-51371F77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385-1034-47DE-A7A3-46120CBB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EEE-3BE2-4FB5-8AA4-B91FE59F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FB5-242A-44DE-915B-68DD759B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516-FE79-4973-9F7F-2ED6324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AC1-3D37-4F49-BD2C-3EC66624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BFB-9A8E-4B30-9261-B5FC1535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BC7-0296-48F1-A220-24BA2DA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6DF-5CDA-4929-8682-8850B89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94B-A7C8-4F27-B3A8-B77ABB9A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FED7-A138-4A8F-9242-36C9DF833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. JULIAN KEVIN AND DI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family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i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12.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28.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72.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Germ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118.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20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L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44:19Z</dcterms:created>
  <dc:creator>tatumadmin</dc:creator>
  <dc:description/>
  <dc:language>en-US</dc:language>
  <cp:lastModifiedBy>tatumadmin</cp:lastModifiedBy>
  <dcterms:modified xsi:type="dcterms:W3CDTF">2009-12-04T21:21:05Z</dcterms:modified>
  <cp:revision>2</cp:revision>
  <dc:subject/>
  <dc:title>Periodic project</dc:title>
</cp:coreProperties>
</file>